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E09-DFC0-40F0-9B61-CCB7F1E3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071-F874-4625-8E2E-1577C8B3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C8A-D27C-4D88-91D6-FEBF1D0D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86A-807B-4C02-854F-CF40D1D3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C02-894A-44AF-BB1F-6F59F36D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F49-1D3B-406A-971B-BBE4D9E6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628-AE58-4227-BCF2-6FCB1F36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920-537C-4D4C-B6CC-2D6668DC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235-ACAD-4A88-9A0B-F0AA18B3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6FA-BC77-4B83-B3D3-5116260A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22D-BE96-46BB-865D-85571D55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488-864B-4D25-AADD-F1C87E48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4C19-C072-4E85-9F09-80333BA61605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 være et fællessk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e bille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6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lede 1" descr="hegnet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kstboks 2"/>
          <p:cNvSpPr/>
          <p:nvPr/>
        </p:nvSpPr>
        <p:spPr>
          <a:xfrm>
            <a:off x="1332000" y="558972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Rektangel 6"/>
          <p:cNvSpPr/>
          <p:nvPr/>
        </p:nvSpPr>
        <p:spPr>
          <a:xfrm>
            <a:off x="402480" y="1916280"/>
            <a:ext cx="28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rønd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llede 1" descr="vejen.jpg"/>
          <p:cNvPicPr/>
          <p:nvPr/>
        </p:nvPicPr>
        <p:blipFill>
          <a:blip r:embed="rId1"/>
          <a:stretch/>
        </p:blipFill>
        <p:spPr>
          <a:xfrm>
            <a:off x="779400" y="0"/>
            <a:ext cx="758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ktangel 2"/>
          <p:cNvSpPr/>
          <p:nvPr/>
        </p:nvSpPr>
        <p:spPr>
          <a:xfrm>
            <a:off x="5714640" y="404640"/>
            <a:ext cx="195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5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5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kstboks 1"/>
          <p:cNvSpPr/>
          <p:nvPr/>
        </p:nvSpPr>
        <p:spPr>
          <a:xfrm>
            <a:off x="756000" y="1484280"/>
            <a:ext cx="7803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jeres fællesskab u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ner det ’Hegnet’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ønden’ eller ’Vejen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boks 1"/>
          <p:cNvSpPr/>
          <p:nvPr/>
        </p:nvSpPr>
        <p:spPr>
          <a:xfrm>
            <a:off x="625320" y="1052640"/>
            <a:ext cx="784764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t fællesskab vil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rne være med 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ler har I et bud på et bed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lle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boks 1"/>
          <p:cNvSpPr/>
          <p:nvPr/>
        </p:nvSpPr>
        <p:spPr>
          <a:xfrm>
            <a:off x="480600" y="1052640"/>
            <a:ext cx="8347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n fællesskab tror 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sus ville tilhør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 hvilken begrundelse tror I d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kstboks 1"/>
          <p:cNvSpPr/>
          <p:nvPr/>
        </p:nvSpPr>
        <p:spPr>
          <a:xfrm>
            <a:off x="516960" y="1052640"/>
            <a:ext cx="64062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’Vejens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osfællesskab ud i praks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6:47:19Z</dcterms:created>
  <dc:creator>Lone Møller-Hansen</dc:creator>
  <dc:description/>
  <dc:language>en-US</dc:language>
  <cp:lastModifiedBy>Gitte</cp:lastModifiedBy>
  <dcterms:modified xsi:type="dcterms:W3CDTF">2010-08-17T10:51:45Z</dcterms:modified>
  <cp:revision>2</cp:revision>
  <dc:subject/>
  <dc:title>At være et fællesskab</dc:title>
</cp:coreProperties>
</file>