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7ED-E2C1-4B45-AD5C-261F1B8C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DE5-6F16-44AC-8F39-A6C23241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F1F-FF21-4523-B6A5-BF689BCE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BB1-C879-475E-ABA8-ACD78198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4BA-1A69-4AD1-9DFD-7A74862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C7C-7CD0-40FE-8791-44153FE7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ED1-EDC0-4A88-BA5F-ED1F1F1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62C-82A7-4189-99A9-11D4AFD5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DC5-72DC-4856-AB37-21709C1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E3F-085F-4C8E-BEB4-1D387D5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4AF-340B-49DE-9F76-8D1CFADD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50B-075D-4993-A196-BB357D39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FC22-CEFC-4B6C-8C4C-C34EFA034284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 være et fællessk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e bill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6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lede 1" descr="hegnet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kstboks 2"/>
          <p:cNvSpPr/>
          <p:nvPr/>
        </p:nvSpPr>
        <p:spPr>
          <a:xfrm>
            <a:off x="1332000" y="558972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Rektangel 6"/>
          <p:cNvSpPr/>
          <p:nvPr/>
        </p:nvSpPr>
        <p:spPr>
          <a:xfrm>
            <a:off x="402480" y="1916280"/>
            <a:ext cx="28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rønd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llede 1" descr="vejen.jpg"/>
          <p:cNvPicPr/>
          <p:nvPr/>
        </p:nvPicPr>
        <p:blipFill>
          <a:blip r:embed="rId1"/>
          <a:stretch/>
        </p:blipFill>
        <p:spPr>
          <a:xfrm>
            <a:off x="779400" y="0"/>
            <a:ext cx="758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2"/>
          <p:cNvSpPr/>
          <p:nvPr/>
        </p:nvSpPr>
        <p:spPr>
          <a:xfrm>
            <a:off x="5714640" y="404640"/>
            <a:ext cx="195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5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boks 1"/>
          <p:cNvSpPr/>
          <p:nvPr/>
        </p:nvSpPr>
        <p:spPr>
          <a:xfrm>
            <a:off x="756000" y="1484280"/>
            <a:ext cx="7803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jeres fællesskab u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ner det ’Hegnet’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ønden’ eller ’Vejen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boks 1"/>
          <p:cNvSpPr/>
          <p:nvPr/>
        </p:nvSpPr>
        <p:spPr>
          <a:xfrm>
            <a:off x="625320" y="1052640"/>
            <a:ext cx="784764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t fællesskab vil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rne være med 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ler har I et bud på et bed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le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boks 1"/>
          <p:cNvSpPr/>
          <p:nvPr/>
        </p:nvSpPr>
        <p:spPr>
          <a:xfrm>
            <a:off x="480600" y="1052640"/>
            <a:ext cx="8347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n fællesskab tror 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sus ville tilhø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 hvilken begrundelse tror I d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boks 1"/>
          <p:cNvSpPr/>
          <p:nvPr/>
        </p:nvSpPr>
        <p:spPr>
          <a:xfrm>
            <a:off x="516960" y="1052640"/>
            <a:ext cx="6406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’Vejens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osfællesskab ud i prak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6:47:19Z</dcterms:created>
  <dc:creator>Lone Møller-Hansen</dc:creator>
  <dc:description/>
  <dc:language>en-US</dc:language>
  <cp:lastModifiedBy>Gitte</cp:lastModifiedBy>
  <dcterms:modified xsi:type="dcterms:W3CDTF">2010-08-17T10:51:45Z</dcterms:modified>
  <cp:revision>2</cp:revision>
  <dc:subject/>
  <dc:title>At være et fællesskab</dc:title>
</cp:coreProperties>
</file>